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464-244D-40CF-99F4-D05A4804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074-4481-4F6E-A966-5BAF621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369-1566-4E04-B474-0616202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E30-4B41-468D-AB8F-466FB6FA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49CB-785C-465E-8F12-4EBB34A4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272B-7A6C-4C09-B473-6CE39D3A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AE3-1F7A-4379-8BA9-A4BE419F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0CF8-D5CA-4CA0-892E-D5ED0CFB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695B-3BA6-431B-80EE-140DB4E5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A610-D302-4046-966C-B22DEF0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2012-10BA-4FAF-9BD8-D3B4B54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D04-F658-4E9D-8442-91B6A78F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53F8-437F-4A3D-BF48-FC41749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4F45-5874-42BD-BEAA-C08CF4F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B5FF-ED77-402A-81EE-8369851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81DC-DBDC-4642-823E-B413C306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215D-A414-4A34-892E-C2D7CCEE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F28-528F-4C58-A5BA-6EE1CC3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32A-562B-4F56-8A39-70A8567B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88D-7B57-46AE-8788-69509EBA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932-2F68-4DFF-A2E5-044D091B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376-B678-4A15-9A04-C568CA3D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B30-5CC7-40EA-81A1-C2224A4B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83E-4895-47FC-B6EE-B2D03B1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56E5-2A73-4803-8A44-C525FED0E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0CB5-03BC-4C5D-8AE4-3DD27C67E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80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7: Evaluating and Controlling 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formation, Knowledge, and Judgment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valuate the reliability of information you find on the Web?  How do your evaluation methods compare to the way you evaluate information from other sour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mputer models are better than others.  What types of models work well?  What types don't? 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omputers and Community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human nature to form associations based on common inte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eared early technologies, such as telephones, thinking communication would be de-human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and the Internet were blamed for the decline in community involvement and memberships in clubs and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provides communities focused on specialized interests or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omputers and Communit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brings people together from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and the Internet provide convenient and cheap ways for families and friends to stay in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trends include social-networking sites such as MySpace and virtual environments such as Second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omputers and Community 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nvincing is the argument that electronic commerce threatens small (“brick and mortar”) community businesses and thus the health of small communities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that communicating by text messaging and via social-networking sites depersonalizes or dehumanizes your relationships with frien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"Digital Divide"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s in Computer Acc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chnologies only available to the weal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it takes for new technology to make its way into common use is decr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is not the only factor; ease of use plays a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preneurs provide low cost options for people who cannot otherwise afford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funds technology in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echnology becomes more prevalent, the issues shift from the haves and have-nots to level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"Digital Divide"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lobal Divide and the Next Billion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one billion people worldwide have access to the Web; approximately five billion do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profit organizations and huge computer companies are spreading computer access to people in develop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new technology to poor countries is not just a matter of money to buy equipment; PCs and laptops must work in extreme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eople actively working to shrink the digital divide emphasize the need to provide access in ways appropriate to the local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Evaluations of the Impact of Computer Technology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o-Luddite View of Computers, Technology, and Human Nee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cause massive un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eal need (We use technologies because they are there, not because they satisfy real nee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cause social ineq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 big business and the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little or nothing to solve real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separate humans from nature and destroy the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Evaluations of the Impact of Computer Technolog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plishments of Techn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s of food are down and raw materials are abund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buying power i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supplies and GDP are growing faster tha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impact on life expect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ive technologies benefit those with dis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Making Decisions About Technology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fficulty of Predi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new technology finds new and unexpecte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tory of technology is full of wildly wrong pred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zenbaum argued against developing speech recognitio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taken expectations of costs and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we decline a technology because of potential abuse and ignore the benef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chnologies are often expensive, but costs drop as the technology advances and the demand in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Making Decisions About Technology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ligent Machines and Super-intelligent Humans - Or the End of the Human R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ical Singularity - point at which artificial intelligence or some combined human-machine intelligence advances so far that we cannot comprehend what lies on the other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not prepare for aftermath, but prepare for more gradual develop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 decision making process most likely to produce what people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, Knowledge, and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and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‘Digital Divid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 of the Impact of Computer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Decisions About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Making Decisions About Technology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could decide what technologies should be developed, what would you develop?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spect of super-intelligent robots sca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Information on the We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 information or ‘wisdom of the crowd’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unting amount of information on the web, much of this information is not cor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engines are replacing librarians, but Web sites are ranked by popularity, not by expert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dom of the crowd - ratings by public of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illions participate, the results will be use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ng Information on the Web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ped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by volunteers, some posts are biased and not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anyone can write, most people do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that do typically are educated and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Information on the Web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dom of the cro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of unreliable information are not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magnifies the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ng systems are easy to manip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nerable vie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educated 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ilities of site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identify user-suppl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clear which information has been ver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Information on the Web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ion of im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s and videos use special effects to add creativity and enjoyment of enter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can use technology for deception and fra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e with which we can modify digital images and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news agencies modify images and vide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king photos is not a new phenomenon; more people can do it now because it’s 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, Thinking and Deci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ools have displaced skills that were once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icating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illing to let computers do their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nce on computer systems over human judgment may become institution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of having to defend your own judgment if something goes w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Mod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ll do the modelers understand the underlying science or the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necessarily involve assumptions and simplification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losely do the results or predictions correspond with the results from physical experiments or real experi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Model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models may not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ight not have complete knowledge of the system we are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a describing current conditions or characteristics may be incomplete of in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power may be inadequate for the complexity of th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difficult, if not impossible, to numerically quantify variables that represent human values and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23:24:24Z</dcterms:modified>
  <cp:revision>43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